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1009-573D-4602-B3E7-A7785BD93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could be a stand-alone workshop.  The ppt could be given followed by time for teachers to work together developing at least one program of study for the local distri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“final piece” of the program of stu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lick link to show them the labor market information.  Choose an example to share with the gro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e to participants that the labor market data (the “spec sheets”) is what is driving the development of Programs of Stu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the steps previously prese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the ppt, have teachers get into like groups and develop a program of stu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eachers that they are probably already doing much of this in the classroom and curriculum.  The goal is to bring each separate piece together (synchroniz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ifferent pieces and amounts of K’Nex or any “constructing” type toy at each table.  Give time for each table to create an object using the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the construction activity with thes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grams of Study are a way to link each family and consumer sciences program to the real world so that students and parents can more easily see the relevance to Family &amp; Consumer Sciences coursework and employabili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grams of Study helps  us all construct a model even though we use different gears (pieces).  Demonstrates that Family &amp; Consumer Sciences courses are a part of preparing students for the workforce.  Even though each local Family &amp; Consumer Sciences program may offer different courses, any course offered must link to a Career Path and Career Cluster within a Program of Stud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tionale – programs of study provide a more seamless transition from high school family &amp; consumer sciences programs to the next step – whether that be work or further education for stud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s of Study will allow students to connect classroom learning and activities with real-world applic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e state and national levels, decisions are made based on funding dollars.  As a part of Carl Perkins Legislation, school districts must develop programs of study.  Family &amp; Consumer Sciences must be the leader in meeting this requirement of the federal legislation. 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or and relevance” will become vital component of our local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 &amp; Consumer Scienc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s as a result of the “construction” of Programs of Stu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 &amp; Consumer Sciences departments in each district needs to be the construction foreman in creating the blue print for the building of Programs of Study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local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ool district is required to have one Program of Study in place by the 2012 MSIP Review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lick on links to show participants where each course fits into Programs of Stu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“steps” to developing a local program of study.  Programs of study will vary depending on the size of the department, number of students enrolled, the participating career &amp; tech school, and the community colle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tep is to look at your local course offering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look at what courses students take at the career &amp; tech cent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students “feed” into these courses from the courses at the local level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re other experiences or certifications that are available in your are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the Community College in your area.  What courses are offered locally that would help prepare students for degrees at the community colle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the Tech-Prep coordinator at the community college to possibly establish an articulation agreem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ate a local Family and Consumer Sciences teacher to serve as the liaison between the community college and local departments.  Small districts within the same area might work together to accomplish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8510-3982-464E-A45E-5CB3C87A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409A-351F-4665-BB64-7516ED0E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27B5-1112-4301-B9FA-ACC406DE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D3C-2453-4DF4-869C-B93DC455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FA76-4401-4129-BC75-3D43CE6E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D99D-DCC1-445B-AE38-28875671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1345-96AE-4CA4-9B5E-D80B1557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D0C-B002-46F7-BA80-D03D0E1C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AE79-DC05-445D-A345-39FFF39D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DC3C-813D-483E-9E09-774B72A1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975A-4B2B-492F-A3A3-47F4694C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A133-0955-45B4-B779-28F1F10A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C61B-706C-449C-A67F-6C4A569DF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issourieconomy.org/" TargetMode="External"/><Relationship Id="rId3" Type="http://schemas.openxmlformats.org/officeDocument/2006/relationships/hyperlink" Target="http://www.missourieconomy.org/" TargetMode="External"/><Relationship Id="rId4" Type="http://schemas.openxmlformats.org/officeDocument/2006/relationships/hyperlink" Target="http://www.missourieconomy.org/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O_Program_of_Study_Temp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atrix-familyab.pdf" TargetMode="External"/><Relationship Id="rId3" Type="http://schemas.openxmlformats.org/officeDocument/2006/relationships/hyperlink" Target="file:///matrix-career.pdf" TargetMode="External"/><Relationship Id="rId4" Type="http://schemas.openxmlformats.org/officeDocument/2006/relationships/hyperlink" Target="file:///matrix-family2.pdf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ynchronizing the G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s of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iving G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courses offered align with your regional labor mark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www.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missourieconomy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iving Gears Synchroniz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rses do you of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rses does your career technical center of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rograms/courses do you feed into at your the commu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courses offered align with the labor mark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iving Gears Synchroniz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Gear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90720" y="34290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19320" y="12193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334120" y="11430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5105520" y="32767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3124080" y="419112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81080" y="167652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mily-Focused Comprehensive 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1676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eer Focused 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38862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y Learning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72080" y="4800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r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396252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 Secondary Arti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3238560" y="38088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86200" y="91440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CS Work &amp; Family Dual Purpose 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eate a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ll the pieces on the table, create a mode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 We All Have th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me Gea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each group begin with same number of pie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each group end up with a model that looked the s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every Family &amp; Consumer Sciences program in state have same courses?  same number of teachers?   NO, but still connected through course offerings, national and state standards/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s of Study-- Get the Gears Mov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 for students and parents to see the link of local Family &amp; Consumer Sciences programs to the real worl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s how different gears (courses) can be used to construct Programs of Stu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80720" y="2019240"/>
            <a:ext cx="54104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l Perkins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IP Review--target date 20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mily &amp; Consumer Sciences G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 of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Family-Focused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Career-Focused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Optional Family-Focused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iving G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rses do you of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-Focused Compreh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and Family Dual-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-Foc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iving G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rograms does your career technical center off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ccup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inary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Industry Learning Experiences and Cert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iving G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rograms/courses do you feed into at your the community colle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Secondary Arti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20:37:55Z</dcterms:created>
  <dc:creator>Connie Dowis User</dc:creator>
  <dc:description/>
  <dc:language>en-US</dc:language>
  <cp:lastModifiedBy>Connie Dowis User</cp:lastModifiedBy>
  <dcterms:modified xsi:type="dcterms:W3CDTF">2008-07-17T15:17:54Z</dcterms:modified>
  <cp:revision>44</cp:revision>
  <dc:subject/>
  <dc:title>Synchronizing the Gears</dc:title>
</cp:coreProperties>
</file>